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20AA-AF73-48F4-8397-92A5E28FF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87850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4520" y="3974040"/>
            <a:ext cx="87850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C452-FFD9-4265-B81F-A7766B798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04520" y="397404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5960" y="397404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A190-31ED-452F-AB87-B7D72898D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4880" y="134100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5240" y="134100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04520" y="397404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4880" y="397404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5240" y="397404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EE28-701E-4E14-A6C7-BD49012A0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04520" y="1341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80880" y="115560"/>
            <a:ext cx="71276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04520" y="397404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04520" y="1341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E041-2418-4BE6-8AEC-46AECC83F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05960" y="397404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04520" y="3974040"/>
            <a:ext cx="87850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87850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04520" y="3974040"/>
            <a:ext cx="87850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04520" y="397404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05960" y="397404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4880" y="134100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45240" y="134100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04520" y="397404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74880" y="397404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45240" y="397404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65130-78B9-4F29-BA03-4882CE8036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04520" y="1341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D38A8-E998-4533-8118-A99F4A7E93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44A8D-F395-4C29-88FA-696584688F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F178F-861B-4B6D-BF21-A732C605DB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0FE57-9412-4CB4-8D01-F8B1A6C584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37AB-6953-4438-976C-F21AA2672E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80880" y="115560"/>
            <a:ext cx="71276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C2300-5B97-46C5-AF84-0398DC6CA6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04520" y="397404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EE92F-8598-4197-9331-1EF81C7056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5960" y="397404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2BDCE-55B6-48AF-A996-395F1F8A83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04520" y="3974040"/>
            <a:ext cx="87850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20535-174B-4449-BAF4-BA02942D44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87850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4520" y="3974040"/>
            <a:ext cx="87850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C1070-B637-41E7-8AF5-5A41E070DD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04520" y="397404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5960" y="397404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B521E-C642-4C0D-B573-1F1BE7D0A4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74880" y="134100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645240" y="134100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04520" y="397404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74880" y="397404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645240" y="3974040"/>
            <a:ext cx="2828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FA275-A862-4C4E-A6A3-19B7C54A9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37D1-6ADB-4CDC-B463-074BD8BC1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976C-5AA6-4745-A1D1-6A2A9233E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80880" y="115560"/>
            <a:ext cx="71276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7A98-E007-470B-8061-691C2B4BA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04520" y="397404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61BD-395B-4115-81A5-08F66A16D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5960" y="397404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18CA-BB60-4671-8B93-F65AAFD19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5960" y="1341000"/>
            <a:ext cx="4286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4520" y="3974040"/>
            <a:ext cx="87850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F0BD-0D58-48D7-A27A-3B09AE929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4360"/>
          </a:xfrm>
          <a:prstGeom prst="bevel">
            <a:avLst>
              <a:gd name="adj" fmla="val 513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985240" y="6597720"/>
            <a:ext cx="9208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P.</a:t>
            </a:r>
            <a:fld id="{F09AF8A3-9F72-4111-A29E-9DE99FE83F06}" type="slidenum">
              <a: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99800" y="6597360"/>
            <a:ext cx="5832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ja-JP" sz="900" spc="-1" strike="noStrike">
                <a:solidFill>
                  <a:srgbClr val="000000"/>
                </a:solidFill>
                <a:latin typeface="Verdana"/>
              </a:rPr>
              <a:t>copyright(c) XXXXXX Corporation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24880" y="115920"/>
            <a:ext cx="115416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704520" y="1341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35388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53352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7128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9000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9000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9000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1038240" cy="1089000"/>
          </a:xfrm>
          <a:prstGeom prst="bevel">
            <a:avLst>
              <a:gd name="adj" fmla="val 5130"/>
            </a:avLst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27507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199800" y="6597360"/>
            <a:ext cx="5832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ja-JP" sz="900" spc="-1" strike="noStrike">
                <a:solidFill>
                  <a:srgbClr val="000000"/>
                </a:solidFill>
                <a:latin typeface="Verdana"/>
              </a:rPr>
              <a:t>copyright(c) XXXXXX Corporation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4880" y="115920"/>
            <a:ext cx="115416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353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メイリオ"/>
            </a:endParaRPr>
          </a:p>
          <a:p>
            <a:pPr lvl="2" marL="533520" algn="ctr">
              <a:spcBef>
                <a:spcPts val="349"/>
              </a:spcBef>
              <a:buClr>
                <a:srgbClr val="000000"/>
              </a:buClr>
              <a:buFont typeface="メイリオ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メイリオ"/>
            </a:endParaRPr>
          </a:p>
          <a:p>
            <a:pPr lvl="3" marL="712800" algn="ctr">
              <a:spcBef>
                <a:spcPts val="349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メイリオ"/>
            </a:endParaRPr>
          </a:p>
          <a:p>
            <a:pPr lvl="4" marL="900000" algn="ctr">
              <a:spcBef>
                <a:spcPts val="201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メイリオ"/>
            </a:endParaRPr>
          </a:p>
          <a:p>
            <a:pPr lvl="5" marL="900000">
              <a:spcBef>
                <a:spcPts val="201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メイリオ"/>
            </a:endParaRPr>
          </a:p>
          <a:p>
            <a:pPr lvl="6" marL="900000">
              <a:spcBef>
                <a:spcPts val="201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906120" cy="684360"/>
          </a:xfrm>
          <a:prstGeom prst="bevel">
            <a:avLst>
              <a:gd name="adj" fmla="val 513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8880" y="1197000"/>
            <a:ext cx="9144000" cy="5256360"/>
          </a:xfrm>
          <a:prstGeom prst="roundRect">
            <a:avLst>
              <a:gd name="adj" fmla="val 3625"/>
            </a:avLst>
          </a:prstGeom>
          <a:gradFill rotWithShape="0">
            <a:gsLst>
              <a:gs pos="0">
                <a:srgbClr val="fefef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04520" y="1341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353880" indent="972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5428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72216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9018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9018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9018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Num" idx="4"/>
          </p:nvPr>
        </p:nvSpPr>
        <p:spPr>
          <a:xfrm>
            <a:off x="8985240" y="6597720"/>
            <a:ext cx="9208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P.</a:t>
            </a:r>
            <a:fld id="{0C8411EC-01E7-46F9-8DE3-C7164EDD97A8}" type="slidenum">
              <a: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199800" y="6597360"/>
            <a:ext cx="5832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ja-JP" sz="900" spc="-1" strike="noStrike">
                <a:solidFill>
                  <a:srgbClr val="000000"/>
                </a:solidFill>
                <a:latin typeface="Verdana"/>
              </a:rPr>
              <a:t>copyright(c) XXXXXX Corporation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2" name=""/>
          <p:cNvSpPr/>
          <p:nvPr/>
        </p:nvSpPr>
        <p:spPr>
          <a:xfrm>
            <a:off x="8624880" y="115920"/>
            <a:ext cx="115416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1038240" cy="1089000"/>
          </a:xfrm>
          <a:prstGeom prst="bevel">
            <a:avLst>
              <a:gd name="adj" fmla="val 5130"/>
            </a:avLst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2680" y="27507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メイリオ"/>
              </a:rPr>
              <a:t>スーパー業務こうりつ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メイリオ"/>
              </a:rPr>
              <a:t>ご提案書</a:t>
            </a:r>
            <a:endParaRPr b="1" lang="en-US" sz="32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76160" y="2249280"/>
            <a:ext cx="83534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業務の効率化でビジネスを加速させます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2" name=""/>
          <p:cNvSpPr/>
          <p:nvPr/>
        </p:nvSpPr>
        <p:spPr>
          <a:xfrm>
            <a:off x="1451160" y="62064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○○○○　御中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8160" y="450864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平成○○年○○月○○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77440" y="5264280"/>
            <a:ext cx="174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905600" y="4365720"/>
            <a:ext cx="1062360" cy="1439640"/>
            <a:chOff x="7905600" y="4365720"/>
            <a:chExt cx="1062360" cy="1439640"/>
          </a:xfrm>
        </p:grpSpPr>
        <p:sp>
          <p:nvSpPr>
            <p:cNvPr id="136" name=""/>
            <p:cNvSpPr/>
            <p:nvPr/>
          </p:nvSpPr>
          <p:spPr>
            <a:xfrm>
              <a:off x="7905600" y="4365720"/>
              <a:ext cx="1062360" cy="1439640"/>
            </a:xfrm>
            <a:prstGeom prst="rect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71280" y="4896360"/>
              <a:ext cx="341280" cy="606240"/>
            </a:xfrm>
            <a:prstGeom prst="ellipse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9000000">
              <a:off x="8436240" y="5047200"/>
              <a:ext cx="341280" cy="606240"/>
            </a:xfrm>
            <a:prstGeom prst="ellipse">
              <a:avLst/>
            </a:prstGeom>
            <a:gradFill rotWithShape="0">
              <a:gsLst>
                <a:gs pos="0">
                  <a:srgbClr val="752f00"/>
                </a:gs>
                <a:gs pos="100000">
                  <a:srgbClr val="ff6600">
                    <a:alpha val="60392"/>
                  </a:srgbClr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8133840" y="4479120"/>
              <a:ext cx="644760" cy="60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Down">
                <a:avLst>
                  <a:gd name="adj" fmla="val 7489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スーパー業務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こうりつ君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4400000">
              <a:off x="8266680" y="5141160"/>
              <a:ext cx="340560" cy="607320"/>
            </a:xfrm>
            <a:prstGeom prst="ellipse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>
                    <a:alpha val="60392"/>
                  </a:srgbClr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473960" y="4581360"/>
            <a:ext cx="1062000" cy="1440000"/>
            <a:chOff x="7473960" y="4581360"/>
            <a:chExt cx="1062000" cy="1440000"/>
          </a:xfrm>
        </p:grpSpPr>
        <p:sp>
          <p:nvSpPr>
            <p:cNvPr id="142" name=""/>
            <p:cNvSpPr/>
            <p:nvPr/>
          </p:nvSpPr>
          <p:spPr>
            <a:xfrm>
              <a:off x="7473960" y="4581360"/>
              <a:ext cx="1062000" cy="1440000"/>
            </a:xfrm>
            <a:prstGeom prst="rect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39640" y="5112000"/>
              <a:ext cx="341280" cy="606600"/>
            </a:xfrm>
            <a:prstGeom prst="ellipse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9000000">
              <a:off x="8004600" y="5262840"/>
              <a:ext cx="340920" cy="606600"/>
            </a:xfrm>
            <a:prstGeom prst="ellipse">
              <a:avLst/>
            </a:prstGeom>
            <a:gradFill rotWithShape="0">
              <a:gsLst>
                <a:gs pos="0">
                  <a:srgbClr val="752f00"/>
                </a:gs>
                <a:gs pos="100000">
                  <a:srgbClr val="ff6600">
                    <a:alpha val="60392"/>
                  </a:srgbClr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7702200" y="4694760"/>
              <a:ext cx="644760" cy="60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Down">
                <a:avLst>
                  <a:gd name="adj" fmla="val 7489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スーパー業務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こうりつ君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4400000">
              <a:off x="7834680" y="5357160"/>
              <a:ext cx="340920" cy="606960"/>
            </a:xfrm>
            <a:prstGeom prst="ellipse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>
                    <a:alpha val="60392"/>
                  </a:srgbClr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スーパー業務こうりつ君の導入事例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1" name=""/>
          <p:cNvSpPr/>
          <p:nvPr/>
        </p:nvSpPr>
        <p:spPr>
          <a:xfrm>
            <a:off x="417600" y="1405080"/>
            <a:ext cx="4464000" cy="219708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6800" y="1549440"/>
            <a:ext cx="4105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7600" y="3753000"/>
            <a:ext cx="4464000" cy="219708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6800" y="3897360"/>
            <a:ext cx="4105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7600" y="1405080"/>
            <a:ext cx="4464000" cy="219708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76800" y="1549440"/>
            <a:ext cx="4105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97600" y="3753000"/>
            <a:ext cx="4464000" cy="219708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76800" y="3897360"/>
            <a:ext cx="4105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47960" y="609300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メイリオ"/>
              </a:rPr>
              <a:t>他にも約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メイリオ"/>
              </a:rPr>
              <a:t>30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メイリオ"/>
              </a:rPr>
              <a:t>件の導入実績がござ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7160" y="216000"/>
            <a:ext cx="5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メイリオ"/>
              </a:rPr>
              <a:t>7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メイリオ"/>
              <a:ea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D7BB-E911-4FDA-B7A4-AF88BE7BC0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スーパー業務こうりつ君の費用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8640" y="1494000"/>
          <a:ext cx="9001440" cy="3579480"/>
        </p:xfrm>
        <a:graphic>
          <a:graphicData uri="http://schemas.openxmlformats.org/drawingml/2006/table">
            <a:tbl>
              <a:tblPr/>
              <a:tblGrid>
                <a:gridCol w="655920"/>
                <a:gridCol w="4876560"/>
                <a:gridCol w="1123920"/>
                <a:gridCol w="657360"/>
                <a:gridCol w="1687680"/>
              </a:tblGrid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税込金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スーパー業務こうりつ君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ライセンス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年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,0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合計金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458640" y="5199120"/>
            <a:ext cx="9001440" cy="431640"/>
          </a:xfrm>
          <a:prstGeom prst="roundRect">
            <a:avLst>
              <a:gd name="adj" fmla="val 1642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75520" y="52322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導入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08040" y="5654520"/>
            <a:ext cx="6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金額は概算の為、実際の見積りとは異なる場合がありますので、ご了承ねが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オプションなどは含まれておりません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は、梱包、運送費用などは含まれておりません。なお、運送費用は地域により異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上記のようにお見積りに関する注意事項を任意で記載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75680" y="52322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１，０５０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7160" y="216000"/>
            <a:ext cx="5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メイリオ"/>
              </a:rPr>
              <a:t>8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メイリオ"/>
              <a:ea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561B-375A-4CA1-A3FD-2F01436596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スーパー業務こうりつ君のＦＡＱ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9" name=""/>
          <p:cNvSpPr/>
          <p:nvPr/>
        </p:nvSpPr>
        <p:spPr>
          <a:xfrm>
            <a:off x="469800" y="1255680"/>
            <a:ext cx="4465800" cy="576360"/>
          </a:xfrm>
          <a:prstGeom prst="roundRect">
            <a:avLst>
              <a:gd name="adj" fmla="val 14602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9800" y="1898640"/>
            <a:ext cx="4465800" cy="934920"/>
          </a:xfrm>
          <a:prstGeom prst="roundRect">
            <a:avLst>
              <a:gd name="adj" fmla="val 698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2880" y="1327320"/>
            <a:ext cx="503280" cy="43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1b1b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メイリオ"/>
              </a:rPr>
              <a:t>Ｑ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2880" y="1969920"/>
            <a:ext cx="50328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99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メイリオ"/>
              </a:rPr>
              <a:t>Ａ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9800" y="3011400"/>
            <a:ext cx="4465800" cy="576360"/>
          </a:xfrm>
          <a:prstGeom prst="roundRect">
            <a:avLst>
              <a:gd name="adj" fmla="val 14602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9800" y="3654360"/>
            <a:ext cx="4465800" cy="935280"/>
          </a:xfrm>
          <a:prstGeom prst="roundRect">
            <a:avLst>
              <a:gd name="adj" fmla="val 698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2880" y="3083040"/>
            <a:ext cx="503280" cy="43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1b1b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メイリオ"/>
              </a:rPr>
              <a:t>Ｑ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2880" y="3726000"/>
            <a:ext cx="5032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99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メイリオ"/>
              </a:rPr>
              <a:t>Ａ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9800" y="4765680"/>
            <a:ext cx="4465800" cy="576360"/>
          </a:xfrm>
          <a:prstGeom prst="roundRect">
            <a:avLst>
              <a:gd name="adj" fmla="val 14602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9800" y="5413320"/>
            <a:ext cx="4465800" cy="934920"/>
          </a:xfrm>
          <a:prstGeom prst="roundRect">
            <a:avLst>
              <a:gd name="adj" fmla="val 698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2880" y="4836960"/>
            <a:ext cx="503280" cy="43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1b1b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メイリオ"/>
              </a:rPr>
              <a:t>Ｑ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2880" y="5484960"/>
            <a:ext cx="5032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99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メイリオ"/>
              </a:rPr>
              <a:t>Ａ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8520" y="1262160"/>
            <a:ext cx="4465440" cy="576000"/>
          </a:xfrm>
          <a:prstGeom prst="roundRect">
            <a:avLst>
              <a:gd name="adj" fmla="val 14602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8520" y="1905120"/>
            <a:ext cx="4465440" cy="934920"/>
          </a:xfrm>
          <a:prstGeom prst="roundRect">
            <a:avLst>
              <a:gd name="adj" fmla="val 698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51600" y="1333440"/>
            <a:ext cx="502920" cy="43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1b1b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メイリオ"/>
              </a:rPr>
              <a:t>Ｑ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51600" y="1976400"/>
            <a:ext cx="502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99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メイリオ"/>
              </a:rPr>
              <a:t>Ａ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8520" y="3017880"/>
            <a:ext cx="4465440" cy="576360"/>
          </a:xfrm>
          <a:prstGeom prst="roundRect">
            <a:avLst>
              <a:gd name="adj" fmla="val 14602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78520" y="3660840"/>
            <a:ext cx="4465440" cy="934920"/>
          </a:xfrm>
          <a:prstGeom prst="roundRect">
            <a:avLst>
              <a:gd name="adj" fmla="val 698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51600" y="3089160"/>
            <a:ext cx="502920" cy="43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1b1b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メイリオ"/>
              </a:rPr>
              <a:t>Ｑ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51600" y="3732120"/>
            <a:ext cx="502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99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メイリオ"/>
              </a:rPr>
              <a:t>Ａ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78520" y="4772160"/>
            <a:ext cx="4465440" cy="576000"/>
          </a:xfrm>
          <a:prstGeom prst="roundRect">
            <a:avLst>
              <a:gd name="adj" fmla="val 14602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78520" y="5419800"/>
            <a:ext cx="4465440" cy="934920"/>
          </a:xfrm>
          <a:prstGeom prst="roundRect">
            <a:avLst>
              <a:gd name="adj" fmla="val 698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51600" y="4843440"/>
            <a:ext cx="502920" cy="43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1b1b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メイリオ"/>
              </a:rPr>
              <a:t>Ｑ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51600" y="5491080"/>
            <a:ext cx="502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99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メイリオ"/>
              </a:rPr>
              <a:t>Ａ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46160" y="13939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メイリオ"/>
              </a:rPr>
              <a:t>よくある質問ってどんな質問です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6160" y="1976400"/>
            <a:ext cx="38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Arial"/>
                <a:ea typeface="メイリオ"/>
              </a:rPr>
              <a:t>よくある質問とは、とてもよくある質問の事です。よくある質問とは、とてもよくある質問の事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6160" y="314964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メイリオ"/>
              </a:rPr>
              <a:t>よくある質問ってどんな質問です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46160" y="3726000"/>
            <a:ext cx="38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Arial"/>
                <a:ea typeface="メイリオ"/>
              </a:rPr>
              <a:t>よくある質問とは、とてもよくある質問の事です。よくある質問とは、とてもよくある質問の事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46160" y="49039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メイリオ"/>
              </a:rPr>
              <a:t>よくある質問ってどんな質問です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46160" y="5484960"/>
            <a:ext cx="38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Arial"/>
                <a:ea typeface="メイリオ"/>
              </a:rPr>
              <a:t>よくある質問とは、とてもよくある質問の事です。よくある質問とは、とてもよくある質問の事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4520" y="140004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メイリオ"/>
              </a:rPr>
              <a:t>よくある質問ってどんな質問です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54520" y="1982880"/>
            <a:ext cx="38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Arial"/>
                <a:ea typeface="メイリオ"/>
              </a:rPr>
              <a:t>よくある質問とは、とてもよくある質問の事です。よくある質問とは、とてもよくある質問の事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54520" y="31561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メイリオ"/>
              </a:rPr>
              <a:t>よくある質問ってどんな質問です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4520" y="3732120"/>
            <a:ext cx="38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Arial"/>
                <a:ea typeface="メイリオ"/>
              </a:rPr>
              <a:t>よくある質問とは、とてもよくある質問の事です。よくある質問とは、とてもよくある質問の事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54520" y="491004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メイリオ"/>
              </a:rPr>
              <a:t>よくある質問ってどんな質問です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4520" y="5491080"/>
            <a:ext cx="38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Arial"/>
                <a:ea typeface="メイリオ"/>
              </a:rPr>
              <a:t>よくある質問とは、とてもよくある質問の事です。よくある質問とは、とてもよくある質問の事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7160" y="216000"/>
            <a:ext cx="5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メイリオ"/>
              </a:rPr>
              <a:t>9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メイリオ"/>
              <a:ea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19BB-94B0-4D90-86FC-1E36323785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お問い合わせ先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20680" y="134136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最後までご覧戴き有難うございました。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弊社製品『スーパー業務こうりつ君』について、よくご理解いただけたと思います。きっと御社の業務効率化に一役買うことは間違いありません。ご注文やご質問をお待ちしておりますので、ぜひともお問合せ戴きますよう、よろしくお願い申し上げます。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8" name=""/>
          <p:cNvSpPr/>
          <p:nvPr/>
        </p:nvSpPr>
        <p:spPr>
          <a:xfrm>
            <a:off x="849240" y="3573360"/>
            <a:ext cx="835200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0" rIns="180000" tIns="360000" bIns="18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</a:t>
            </a: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株式会社　営業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担当者：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</a:t>
            </a: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3-0000-0000</a:t>
            </a: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／</a:t>
            </a: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</a:t>
            </a: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3-0000-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メール：</a:t>
            </a: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fo@digipo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://www.digipo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 </a:t>
            </a: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○○区○○○０丁目０番０号　○○○ビル</a:t>
            </a: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</a:t>
            </a:r>
            <a:r>
              <a:rPr b="1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76160" y="3429000"/>
            <a:ext cx="259092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お問合せ先はこち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7160" y="216000"/>
            <a:ext cx="5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メイリオ"/>
              </a:rPr>
              <a:t>10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メイリオ"/>
              <a:ea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1D393-BCE1-4AEF-894F-041092A94B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はじめに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04520" y="1341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平素は格別のご高配を賜り厚く御礼申し上げます。この度は、ご提案の機会を戴き誠に有難うございます。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 □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7160" y="216000"/>
            <a:ext cx="5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メイリオ"/>
              </a:rPr>
              <a:t>0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メイリオ"/>
              <a:ea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5D227-32B1-4270-8907-AB9DD03969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目次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"/>
          <p:cNvSpPr/>
          <p:nvPr/>
        </p:nvSpPr>
        <p:spPr>
          <a:xfrm>
            <a:off x="849240" y="1197000"/>
            <a:ext cx="5112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ご提案の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ご提案の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スーパー業務こうりつ君の導入メリ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スーパー業務こうりつ君の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スーパー業務こうりつ君のスペッ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スーパー業務こうりつ君と他社製品比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スーパー業務こうりつ君の導入事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スーパー業務こうりつ君の費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スーパー効率君のＦＡ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73600" y="1197000"/>
            <a:ext cx="29512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・・・・・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・・・・・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・・・・・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・・・・・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・・・・・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・・・・・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・・・・・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・・・・・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・・・・・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769240" y="1197000"/>
            <a:ext cx="505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7160" y="216000"/>
            <a:ext cx="5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メイリオ"/>
              </a:rPr>
              <a:t>0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メイリオ"/>
              <a:ea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273AC-4B72-49A6-878A-FBE1E53F88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ご提案の背景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6" name=""/>
          <p:cNvSpPr/>
          <p:nvPr/>
        </p:nvSpPr>
        <p:spPr>
          <a:xfrm>
            <a:off x="704880" y="134136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ＰＣで作業していると、様々な無駄が存在していることにお気づきでしょうか？例えばこんなシーン・・・・□ □ □ □ □ □ □ □ □ □ □ □ □ □ □ □ □ □ □ □ □ □ □ □ □ □ □ □ □ □ □ □ □ □ □ □ □ □ □ □ □ □ □ □ □ □ □ □ □ 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4880" y="585936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これらの無駄は、ソフトウェア１本で全て解決できるのです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22520" y="6218280"/>
            <a:ext cx="7065720" cy="90360"/>
          </a:xfrm>
          <a:custGeom>
            <a:avLst/>
            <a:gdLst/>
            <a:ahLst/>
            <a:rect l="l" t="t" r="r" b="b"/>
            <a:pathLst>
              <a:path w="4989" h="114">
                <a:moveTo>
                  <a:pt x="0" y="114"/>
                </a:moveTo>
                <a:cubicBezTo>
                  <a:pt x="37" y="57"/>
                  <a:pt x="75" y="0"/>
                  <a:pt x="113" y="0"/>
                </a:cubicBezTo>
                <a:cubicBezTo>
                  <a:pt x="151" y="0"/>
                  <a:pt x="188" y="114"/>
                  <a:pt x="226" y="114"/>
                </a:cubicBezTo>
                <a:cubicBezTo>
                  <a:pt x="264" y="114"/>
                  <a:pt x="302" y="0"/>
                  <a:pt x="340" y="0"/>
                </a:cubicBezTo>
                <a:cubicBezTo>
                  <a:pt x="378" y="0"/>
                  <a:pt x="415" y="114"/>
                  <a:pt x="453" y="114"/>
                </a:cubicBezTo>
                <a:cubicBezTo>
                  <a:pt x="491" y="114"/>
                  <a:pt x="529" y="0"/>
                  <a:pt x="567" y="0"/>
                </a:cubicBezTo>
                <a:cubicBezTo>
                  <a:pt x="605" y="0"/>
                  <a:pt x="642" y="114"/>
                  <a:pt x="680" y="114"/>
                </a:cubicBezTo>
                <a:cubicBezTo>
                  <a:pt x="718" y="114"/>
                  <a:pt x="755" y="0"/>
                  <a:pt x="793" y="0"/>
                </a:cubicBezTo>
                <a:cubicBezTo>
                  <a:pt x="831" y="0"/>
                  <a:pt x="869" y="114"/>
                  <a:pt x="907" y="114"/>
                </a:cubicBezTo>
                <a:cubicBezTo>
                  <a:pt x="945" y="114"/>
                  <a:pt x="982" y="0"/>
                  <a:pt x="1020" y="0"/>
                </a:cubicBezTo>
                <a:cubicBezTo>
                  <a:pt x="1058" y="0"/>
                  <a:pt x="1096" y="114"/>
                  <a:pt x="1134" y="114"/>
                </a:cubicBezTo>
                <a:cubicBezTo>
                  <a:pt x="1172" y="114"/>
                  <a:pt x="1209" y="0"/>
                  <a:pt x="1247" y="0"/>
                </a:cubicBezTo>
                <a:cubicBezTo>
                  <a:pt x="1285" y="0"/>
                  <a:pt x="1322" y="114"/>
                  <a:pt x="1360" y="114"/>
                </a:cubicBezTo>
                <a:cubicBezTo>
                  <a:pt x="1398" y="114"/>
                  <a:pt x="1436" y="0"/>
                  <a:pt x="1474" y="0"/>
                </a:cubicBezTo>
                <a:cubicBezTo>
                  <a:pt x="1512" y="0"/>
                  <a:pt x="1549" y="114"/>
                  <a:pt x="1587" y="114"/>
                </a:cubicBezTo>
                <a:cubicBezTo>
                  <a:pt x="1625" y="114"/>
                  <a:pt x="1663" y="0"/>
                  <a:pt x="1701" y="0"/>
                </a:cubicBezTo>
                <a:cubicBezTo>
                  <a:pt x="1739" y="0"/>
                  <a:pt x="1776" y="114"/>
                  <a:pt x="1814" y="114"/>
                </a:cubicBezTo>
                <a:cubicBezTo>
                  <a:pt x="1852" y="114"/>
                  <a:pt x="1889" y="0"/>
                  <a:pt x="1927" y="0"/>
                </a:cubicBezTo>
                <a:cubicBezTo>
                  <a:pt x="1965" y="0"/>
                  <a:pt x="2003" y="114"/>
                  <a:pt x="2041" y="114"/>
                </a:cubicBezTo>
                <a:cubicBezTo>
                  <a:pt x="2079" y="114"/>
                  <a:pt x="2116" y="0"/>
                  <a:pt x="2154" y="0"/>
                </a:cubicBezTo>
                <a:cubicBezTo>
                  <a:pt x="2192" y="0"/>
                  <a:pt x="2230" y="114"/>
                  <a:pt x="2268" y="114"/>
                </a:cubicBezTo>
                <a:cubicBezTo>
                  <a:pt x="2306" y="114"/>
                  <a:pt x="2343" y="0"/>
                  <a:pt x="2381" y="0"/>
                </a:cubicBezTo>
                <a:cubicBezTo>
                  <a:pt x="2419" y="0"/>
                  <a:pt x="2456" y="114"/>
                  <a:pt x="2494" y="114"/>
                </a:cubicBezTo>
                <a:cubicBezTo>
                  <a:pt x="2532" y="114"/>
                  <a:pt x="2570" y="0"/>
                  <a:pt x="2608" y="0"/>
                </a:cubicBezTo>
                <a:cubicBezTo>
                  <a:pt x="2646" y="0"/>
                  <a:pt x="2683" y="114"/>
                  <a:pt x="2721" y="114"/>
                </a:cubicBezTo>
                <a:cubicBezTo>
                  <a:pt x="2759" y="114"/>
                  <a:pt x="2797" y="0"/>
                  <a:pt x="2835" y="0"/>
                </a:cubicBezTo>
                <a:cubicBezTo>
                  <a:pt x="2873" y="0"/>
                  <a:pt x="2910" y="114"/>
                  <a:pt x="2948" y="114"/>
                </a:cubicBezTo>
                <a:cubicBezTo>
                  <a:pt x="2986" y="114"/>
                  <a:pt x="3023" y="0"/>
                  <a:pt x="3061" y="0"/>
                </a:cubicBezTo>
                <a:cubicBezTo>
                  <a:pt x="3099" y="0"/>
                  <a:pt x="3137" y="114"/>
                  <a:pt x="3175" y="114"/>
                </a:cubicBezTo>
                <a:cubicBezTo>
                  <a:pt x="3213" y="114"/>
                  <a:pt x="3250" y="0"/>
                  <a:pt x="3288" y="0"/>
                </a:cubicBezTo>
                <a:cubicBezTo>
                  <a:pt x="3326" y="0"/>
                  <a:pt x="3364" y="114"/>
                  <a:pt x="3402" y="114"/>
                </a:cubicBezTo>
                <a:cubicBezTo>
                  <a:pt x="3440" y="114"/>
                  <a:pt x="3477" y="0"/>
                  <a:pt x="3515" y="0"/>
                </a:cubicBezTo>
                <a:cubicBezTo>
                  <a:pt x="3553" y="0"/>
                  <a:pt x="3590" y="114"/>
                  <a:pt x="3628" y="114"/>
                </a:cubicBezTo>
                <a:cubicBezTo>
                  <a:pt x="3666" y="114"/>
                  <a:pt x="3704" y="0"/>
                  <a:pt x="3742" y="0"/>
                </a:cubicBezTo>
                <a:cubicBezTo>
                  <a:pt x="3780" y="0"/>
                  <a:pt x="3817" y="114"/>
                  <a:pt x="3855" y="114"/>
                </a:cubicBezTo>
                <a:cubicBezTo>
                  <a:pt x="3893" y="114"/>
                  <a:pt x="3931" y="0"/>
                  <a:pt x="3969" y="0"/>
                </a:cubicBezTo>
                <a:cubicBezTo>
                  <a:pt x="4007" y="0"/>
                  <a:pt x="4044" y="114"/>
                  <a:pt x="4082" y="114"/>
                </a:cubicBezTo>
                <a:cubicBezTo>
                  <a:pt x="4120" y="114"/>
                  <a:pt x="4157" y="0"/>
                  <a:pt x="4195" y="0"/>
                </a:cubicBezTo>
                <a:cubicBezTo>
                  <a:pt x="4233" y="0"/>
                  <a:pt x="4271" y="114"/>
                  <a:pt x="4309" y="114"/>
                </a:cubicBezTo>
                <a:cubicBezTo>
                  <a:pt x="4347" y="114"/>
                  <a:pt x="4384" y="0"/>
                  <a:pt x="4422" y="0"/>
                </a:cubicBezTo>
                <a:cubicBezTo>
                  <a:pt x="4460" y="0"/>
                  <a:pt x="4498" y="114"/>
                  <a:pt x="4536" y="114"/>
                </a:cubicBezTo>
                <a:cubicBezTo>
                  <a:pt x="4574" y="114"/>
                  <a:pt x="4611" y="0"/>
                  <a:pt x="4649" y="0"/>
                </a:cubicBezTo>
                <a:cubicBezTo>
                  <a:pt x="4687" y="0"/>
                  <a:pt x="4724" y="114"/>
                  <a:pt x="4762" y="114"/>
                </a:cubicBezTo>
                <a:cubicBezTo>
                  <a:pt x="4800" y="114"/>
                  <a:pt x="4838" y="0"/>
                  <a:pt x="4876" y="0"/>
                </a:cubicBezTo>
                <a:cubicBezTo>
                  <a:pt x="4914" y="0"/>
                  <a:pt x="4951" y="57"/>
                  <a:pt x="4989" y="114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82880" y="5319720"/>
            <a:ext cx="4365720" cy="495360"/>
          </a:xfrm>
          <a:prstGeom prst="downArrow">
            <a:avLst>
              <a:gd name="adj1" fmla="val 54111"/>
              <a:gd name="adj2" fmla="val 5609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22320" y="2781360"/>
            <a:ext cx="2590920" cy="2538360"/>
          </a:xfrm>
          <a:prstGeom prst="roundRect">
            <a:avLst>
              <a:gd name="adj" fmla="val 941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30680" y="2781360"/>
            <a:ext cx="2590920" cy="2538360"/>
          </a:xfrm>
          <a:prstGeom prst="roundRect">
            <a:avLst>
              <a:gd name="adj" fmla="val 941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39040" y="2781360"/>
            <a:ext cx="2590560" cy="2538360"/>
          </a:xfrm>
          <a:prstGeom prst="roundRect">
            <a:avLst>
              <a:gd name="adj" fmla="val 941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6160" y="2637000"/>
            <a:ext cx="865440" cy="674640"/>
          </a:xfrm>
          <a:custGeom>
            <a:avLst/>
            <a:gdLst>
              <a:gd name="textAreaLeft" fmla="*/ 197640 w 865440"/>
              <a:gd name="textAreaRight" fmla="*/ 667800 w 865440"/>
              <a:gd name="textAreaTop" fmla="*/ 154080 h 674640"/>
              <a:gd name="textAreaBottom" fmla="*/ 520560 h 67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2637000"/>
            <a:ext cx="865080" cy="674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54080 h 674640"/>
              <a:gd name="textAreaBottom" fmla="*/ 520560 h 67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92880" y="2619360"/>
            <a:ext cx="865080" cy="674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54080 h 674640"/>
              <a:gd name="textAreaBottom" fmla="*/ 520560 h 67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2160" y="335772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れらの無駄は、ソフトウェア１本で全て解決できるのです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0520" y="335772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れらの無駄は、ソフトウェア１本で全て解決できるのです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08880" y="335772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れらの無駄は、ソフトウェア１本で全て解決できるのです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2160" y="2843280"/>
            <a:ext cx="45072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</a:rPr>
              <a:t>ムダ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</a:rPr>
              <a:t>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メイリオ"/>
              <a:ea typeface="メイリオ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71800" y="2843280"/>
            <a:ext cx="45108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</a:rPr>
              <a:t>ムダ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</a:rPr>
              <a:t>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メイリオ"/>
              <a:ea typeface="メイリオ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616800" y="2843280"/>
            <a:ext cx="45072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</a:rPr>
              <a:t>ムダ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</a:rPr>
              <a:t>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メイリオ"/>
              <a:ea typeface="メイリオ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7160" y="216000"/>
            <a:ext cx="5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メイリオ"/>
              </a:rPr>
              <a:t>1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メイリオ"/>
              <a:ea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40307-207E-4C1F-B8E2-FE77084D63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ご提案の概要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42880" y="3789360"/>
            <a:ext cx="2014200" cy="2231640"/>
            <a:chOff x="542880" y="3789360"/>
            <a:chExt cx="2014200" cy="2231640"/>
          </a:xfrm>
        </p:grpSpPr>
        <p:grpSp>
          <p:nvGrpSpPr>
            <p:cNvPr id="175" name=""/>
            <p:cNvGrpSpPr/>
            <p:nvPr/>
          </p:nvGrpSpPr>
          <p:grpSpPr>
            <a:xfrm>
              <a:off x="1125000" y="3789360"/>
              <a:ext cx="1432080" cy="1940400"/>
              <a:chOff x="1125000" y="3789360"/>
              <a:chExt cx="1432080" cy="1940400"/>
            </a:xfrm>
          </p:grpSpPr>
          <p:sp>
            <p:nvSpPr>
              <p:cNvPr id="176" name=""/>
              <p:cNvSpPr/>
              <p:nvPr/>
            </p:nvSpPr>
            <p:spPr>
              <a:xfrm>
                <a:off x="1125000" y="3789360"/>
                <a:ext cx="1432080" cy="1940400"/>
              </a:xfrm>
              <a:prstGeom prst="rect">
                <a:avLst/>
              </a:prstGeom>
              <a:gradFill rotWithShape="0">
                <a:gsLst>
                  <a:gs pos="0">
                    <a:srgbClr val="00003b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483200" y="4504680"/>
                <a:ext cx="460080" cy="817200"/>
              </a:xfrm>
              <a:prstGeom prst="ellipse">
                <a:avLst/>
              </a:prstGeom>
              <a:gradFill rotWithShape="0">
                <a:gsLst>
                  <a:gs pos="0">
                    <a:srgbClr val="172f75"/>
                  </a:gs>
                  <a:gs pos="100000">
                    <a:srgbClr val="3366ff">
                      <a:alpha val="6039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9000000">
                <a:off x="1841040" y="4708080"/>
                <a:ext cx="460080" cy="817200"/>
              </a:xfrm>
              <a:prstGeom prst="ellipse">
                <a:avLst/>
              </a:prstGeom>
              <a:gradFill rotWithShape="0">
                <a:gsLst>
                  <a:gs pos="0">
                    <a:srgbClr val="752f00"/>
                  </a:gs>
                  <a:gs pos="100000">
                    <a:srgbClr val="ff6600">
                      <a:alpha val="60392"/>
                    </a:srgbClr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1432800" y="3942360"/>
                <a:ext cx="869400" cy="816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Down">
                  <a:avLst>
                    <a:gd name="adj" fmla="val 7489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スーパー業務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こうりつ君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4400000">
                <a:off x="1612080" y="4834440"/>
                <a:ext cx="459360" cy="818640"/>
              </a:xfrm>
              <a:prstGeom prst="ellipse">
                <a:avLst/>
              </a:prstGeom>
              <a:gradFill rotWithShape="0">
                <a:gsLst>
                  <a:gs pos="0">
                    <a:srgbClr val="465e00"/>
                  </a:gs>
                  <a:gs pos="100000">
                    <a:srgbClr val="99cc00">
                      <a:alpha val="60392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42880" y="4079880"/>
              <a:ext cx="1432080" cy="1941120"/>
              <a:chOff x="542880" y="4079880"/>
              <a:chExt cx="1432080" cy="194112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880" y="4079880"/>
                <a:ext cx="1432080" cy="1941120"/>
              </a:xfrm>
              <a:prstGeom prst="rect">
                <a:avLst/>
              </a:prstGeom>
              <a:gradFill rotWithShape="0">
                <a:gsLst>
                  <a:gs pos="0">
                    <a:srgbClr val="00003b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01080" y="4795200"/>
                <a:ext cx="460080" cy="817560"/>
              </a:xfrm>
              <a:prstGeom prst="ellipse">
                <a:avLst/>
              </a:prstGeom>
              <a:gradFill rotWithShape="0">
                <a:gsLst>
                  <a:gs pos="0">
                    <a:srgbClr val="172f75"/>
                  </a:gs>
                  <a:gs pos="100000">
                    <a:srgbClr val="3366ff">
                      <a:alpha val="6039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9000000">
                <a:off x="1258560" y="4998600"/>
                <a:ext cx="460080" cy="817560"/>
              </a:xfrm>
              <a:prstGeom prst="ellipse">
                <a:avLst/>
              </a:prstGeom>
              <a:gradFill rotWithShape="0">
                <a:gsLst>
                  <a:gs pos="0">
                    <a:srgbClr val="752f00"/>
                  </a:gs>
                  <a:gs pos="100000">
                    <a:srgbClr val="ff6600">
                      <a:alpha val="60392"/>
                    </a:srgbClr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850680" y="4232880"/>
                <a:ext cx="869400" cy="816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Down">
                  <a:avLst>
                    <a:gd name="adj" fmla="val 7489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スーパー業務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こうりつ君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4400000">
                <a:off x="1029960" y="5125680"/>
                <a:ext cx="459360" cy="818640"/>
              </a:xfrm>
              <a:prstGeom prst="ellipse">
                <a:avLst/>
              </a:prstGeom>
              <a:gradFill rotWithShape="0">
                <a:gsLst>
                  <a:gs pos="0">
                    <a:srgbClr val="465e00"/>
                  </a:gs>
                  <a:gs pos="100000">
                    <a:srgbClr val="99cc00">
                      <a:alpha val="60392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3152880" y="998640"/>
            <a:ext cx="6345000" cy="166536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52880" y="2798640"/>
            <a:ext cx="6345000" cy="166536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52880" y="4599000"/>
            <a:ext cx="6345000" cy="166536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7160" y="216000"/>
            <a:ext cx="5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メイリオ"/>
              </a:rPr>
              <a:t>2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メイリオ"/>
              <a:ea typeface="メイリオ"/>
            </a:endParaRPr>
          </a:p>
        </p:txBody>
      </p:sp>
      <p:sp>
        <p:nvSpPr>
          <p:cNvPr id="191" name=""/>
          <p:cNvSpPr/>
          <p:nvPr/>
        </p:nvSpPr>
        <p:spPr>
          <a:xfrm>
            <a:off x="3287880" y="1179360"/>
            <a:ext cx="61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提案ポイントをわかりやすく記載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87880" y="2933640"/>
            <a:ext cx="61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提案ポイントをわかりやすく記載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87880" y="4689360"/>
            <a:ext cx="61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提案ポイントをわかりやすく記載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D498-2E8B-4F7F-903A-171956D003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スーパー業務こうりつ君の導入メリット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5" name=""/>
          <p:cNvSpPr/>
          <p:nvPr/>
        </p:nvSpPr>
        <p:spPr>
          <a:xfrm>
            <a:off x="417600" y="1405080"/>
            <a:ext cx="4464000" cy="237636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7600" y="3968640"/>
            <a:ext cx="4464000" cy="237672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97600" y="1405080"/>
            <a:ext cx="4464000" cy="237636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97600" y="3968640"/>
            <a:ext cx="4464000" cy="237672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7160" y="216000"/>
            <a:ext cx="5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メイリオ"/>
              </a:rPr>
              <a:t>3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メイリオ"/>
              <a:ea typeface="メイリオ"/>
            </a:endParaRPr>
          </a:p>
        </p:txBody>
      </p:sp>
      <p:sp>
        <p:nvSpPr>
          <p:cNvPr id="200" name=""/>
          <p:cNvSpPr/>
          <p:nvPr/>
        </p:nvSpPr>
        <p:spPr>
          <a:xfrm>
            <a:off x="496800" y="1549440"/>
            <a:ext cx="4105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作業効率大幅アッ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メリットの詳細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22880" y="1549440"/>
            <a:ext cx="4105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経費節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メリットの詳細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6800" y="4103640"/>
            <a:ext cx="4105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メリッ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メリットの詳細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22880" y="4103640"/>
            <a:ext cx="4105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機能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メリットの詳細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9F15-0AFE-4F5D-86A3-859364F3E8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スーパー業務こうりつ君の機能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5" name=""/>
          <p:cNvSpPr/>
          <p:nvPr/>
        </p:nvSpPr>
        <p:spPr>
          <a:xfrm>
            <a:off x="417600" y="1405080"/>
            <a:ext cx="4464000" cy="237636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7600" y="3968640"/>
            <a:ext cx="4464000" cy="237672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97600" y="1405080"/>
            <a:ext cx="4464000" cy="237636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97600" y="3968640"/>
            <a:ext cx="4464000" cy="2376720"/>
          </a:xfrm>
          <a:prstGeom prst="roundRect">
            <a:avLst>
              <a:gd name="adj" fmla="val 2514"/>
            </a:avLst>
          </a:prstGeom>
          <a:gradFill rotWithShape="0">
            <a:gsLst>
              <a:gs pos="0">
                <a:srgbClr val="f1f7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7160" y="216000"/>
            <a:ext cx="5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メイリオ"/>
              </a:rPr>
              <a:t>4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メイリオ"/>
              <a:ea typeface="メイリオ"/>
            </a:endParaRPr>
          </a:p>
        </p:txBody>
      </p:sp>
      <p:sp>
        <p:nvSpPr>
          <p:cNvPr id="210" name=""/>
          <p:cNvSpPr/>
          <p:nvPr/>
        </p:nvSpPr>
        <p:spPr>
          <a:xfrm>
            <a:off x="496800" y="1549440"/>
            <a:ext cx="4105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機能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機能の詳細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22880" y="1549440"/>
            <a:ext cx="4105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機能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機能の詳細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6800" y="4103640"/>
            <a:ext cx="4105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機能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機能の詳細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22880" y="4103640"/>
            <a:ext cx="4105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機能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機能の詳細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0C06-72BB-4D41-A55A-7C7D512A41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スーパー業務こうりつ君のスペック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04880" y="1538280"/>
          <a:ext cx="8658360" cy="4533840"/>
        </p:xfrm>
        <a:graphic>
          <a:graphicData uri="http://schemas.openxmlformats.org/drawingml/2006/table">
            <a:tbl>
              <a:tblPr/>
              <a:tblGrid>
                <a:gridCol w="2293920"/>
                <a:gridCol w="636444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対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推奨環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必要メモ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 txBox="1"/>
          <p:nvPr/>
        </p:nvSpPr>
        <p:spPr>
          <a:xfrm>
            <a:off x="227160" y="216000"/>
            <a:ext cx="5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メイリオ"/>
              </a:rPr>
              <a:t>5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メイリオ"/>
              <a:ea typeface="メイリオ"/>
            </a:endParaRPr>
          </a:p>
        </p:txBody>
      </p:sp>
      <p:sp>
        <p:nvSpPr>
          <p:cNvPr id="217" name=""/>
          <p:cNvSpPr/>
          <p:nvPr/>
        </p:nvSpPr>
        <p:spPr>
          <a:xfrm>
            <a:off x="7652160" y="6084720"/>
            <a:ext cx="41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スペックは予告なく変更する場合があ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847F-9482-40D5-A426-8C980DD653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80880" y="11556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スーパー業務こうりつ君と他社製品比較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9" name=""/>
          <p:cNvSpPr/>
          <p:nvPr/>
        </p:nvSpPr>
        <p:spPr>
          <a:xfrm>
            <a:off x="2144880" y="1224000"/>
            <a:ext cx="2447640" cy="657360"/>
          </a:xfrm>
          <a:prstGeom prst="roundRect">
            <a:avLst>
              <a:gd name="adj" fmla="val 7431"/>
            </a:avLst>
          </a:prstGeom>
          <a:solidFill>
            <a:srgbClr val="ff6600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44880" y="1224000"/>
            <a:ext cx="2447640" cy="576360"/>
          </a:xfrm>
          <a:prstGeom prst="roundRect">
            <a:avLst>
              <a:gd name="adj" fmla="val 25620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9240" y="1368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自社製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92520" y="1224000"/>
            <a:ext cx="2448000" cy="657360"/>
          </a:xfrm>
          <a:prstGeom prst="roundRect">
            <a:avLst>
              <a:gd name="adj" fmla="val 7431"/>
            </a:avLst>
          </a:prstGeom>
          <a:solidFill>
            <a:srgbClr val="333399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92520" y="1224000"/>
            <a:ext cx="2448000" cy="576360"/>
          </a:xfrm>
          <a:prstGeom prst="roundRect">
            <a:avLst>
              <a:gd name="adj" fmla="val 25620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37240" y="1368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他社製品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40520" y="1224000"/>
            <a:ext cx="2448000" cy="657360"/>
          </a:xfrm>
          <a:prstGeom prst="roundRect">
            <a:avLst>
              <a:gd name="adj" fmla="val 7431"/>
            </a:avLst>
          </a:prstGeom>
          <a:solidFill>
            <a:srgbClr val="333399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40520" y="1224000"/>
            <a:ext cx="2448000" cy="576360"/>
          </a:xfrm>
          <a:prstGeom prst="roundRect">
            <a:avLst>
              <a:gd name="adj" fmla="val 25620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84880" y="136836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他社製品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15800" y="1836720"/>
          <a:ext cx="9074160" cy="4427280"/>
        </p:xfrm>
        <a:graphic>
          <a:graphicData uri="http://schemas.openxmlformats.org/drawingml/2006/table">
            <a:tbl>
              <a:tblPr/>
              <a:tblGrid>
                <a:gridCol w="1729080"/>
                <a:gridCol w="2447640"/>
                <a:gridCol w="2448000"/>
                <a:gridCol w="2449440"/>
              </a:tblGrid>
              <a:tr h="44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44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項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比較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44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 txBox="1"/>
          <p:nvPr/>
        </p:nvSpPr>
        <p:spPr>
          <a:xfrm>
            <a:off x="227160" y="216000"/>
            <a:ext cx="5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メイリオ"/>
              </a:rPr>
              <a:t>6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メイリオ"/>
              <a:ea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9D0A-A4FB-4009-99C2-BC4943C2AD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00:43:12Z</dcterms:created>
  <dc:creator>http://www.digipot.net</dc:creator>
  <dc:description/>
  <dc:language>en-US</dc:language>
  <cp:lastModifiedBy>http://www.digipot.net</cp:lastModifiedBy>
  <dcterms:modified xsi:type="dcterms:W3CDTF">2012-10-04T07:31:29Z</dcterms:modified>
  <cp:revision>1</cp:revision>
  <dc:subject>PPT190_ソフトウェア提案資料</dc:subject>
  <dc:title>PPT190_ソフトウェア提案資料</dc:title>
</cp:coreProperties>
</file>